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069-A3B2-46B9-AB63-848C13A1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4A3-F535-4240-891A-BF7D7598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A5DA1-4D81-4A7E-A607-E9CEF9D3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E8DE2-7D0F-4833-9425-7809FF17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EA3AB-857E-4DA0-90BE-DA64854E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65AB9-BFC9-4800-AA53-38DC83F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36A2E-D0BE-4720-A371-15445E58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363C6-1342-4816-ADAB-F230B1FE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4207E-B1C6-4219-A0AC-3E99E3A7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09327-97FD-4302-AC48-669F1061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D41D2-37B3-48B3-BD50-0A329B83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A4F3F-2786-48BB-90BE-CA9A99EB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03B-1F91-4203-9ABD-60ACE952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59F78-8EB0-4166-8CC2-18DAA49C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13D33-E974-4B7C-8B35-7EB348C2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F421A-9227-40DA-B229-39FF7FCD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016B2-4003-4486-ACFD-A9D38631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D8F14-0F26-440F-A3F9-509C4FF8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2C9B4-DC5C-422B-8C81-453BEA11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9A4BB-827A-41F4-AE8C-F0A1638F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47710-8AD2-48D4-A6DA-4916CAF3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4E274-9E44-4176-A4D7-F4E72CF7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2AEC9-C08F-4DE0-BA73-524F8CFD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8E3-8EA8-43D4-B334-97E1C1B6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66AC3-75C3-4AD0-B2FA-A4D7995E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578B5-3583-4E97-9606-BCBBB708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AC6DE-4C49-429E-8EFD-60312A4B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B850D-CE5B-4FD8-B0A0-29877D5F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54525-3743-4F4F-8A59-C30FD5D7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E435C-88E3-43DD-81D4-AF574226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D1266-3532-41DF-996A-ECCEB371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497CE-DB06-4DB8-A6B4-A8EB812A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15CBF-1CA4-4687-9902-AA389277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7CA94-CF23-473C-BA23-3D8E24BC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45F3-337D-450D-97CA-859C350D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017E4-A936-4FA5-9B6F-5385A8DF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9624C-8FA6-4443-A5D2-9A12F7BE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584D2-3987-4EB5-A893-6BDD4EFE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AADDD-853C-456D-9571-C995C22F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059C6-0136-4F72-9BE2-0E6D8483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2533E-54F7-4488-8054-F113D741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2F67C-9FAF-49B6-AD86-AF390FA9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323EE-A766-405C-9D2B-25A52451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786E0-76B1-4115-8199-54A7EB22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F9F2A-8DF7-4483-A02C-C073A079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64B3-08AD-4B99-82F1-2EBAFA60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77DE7-84CC-44D0-92EE-9B43B804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E57B4-E969-45B7-A5A8-237752DE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A1C2D-3482-421B-9718-4C97794C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AF74F-2C55-43F4-8092-39D71E87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1279F-97BA-471F-8848-67FE060F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D6C1-7C1F-4FA5-B85B-A98037E8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B7FE-59B1-431E-A523-882B75A7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96E6-5EC5-4462-9436-ED85756A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DB0E-5141-4948-B09F-BAB45C7C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CD22-ECEF-4F72-BC3C-579B496A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25E-F12D-4F03-8B97-E0EF7E64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F7DA-6AA9-4C73-967E-57B43B2C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8B74-1494-473F-A9E8-3A554FBE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34CF-FE67-4EB3-98BB-B4685A7E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0B2F-3735-4D33-A94B-9937E610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CFA8-A6A2-45D5-A765-E58DAB55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9C61-4310-4080-BF41-7E3C8D87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B0B72-2B59-410B-BAE1-FA168D7C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03D9C-63B6-4EB7-9F50-45A30D9C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4BB2-ED04-4C22-A91F-4F51C5CE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C6BB0-D43B-4F83-A0EB-6D0F6D35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059-F3FC-4E70-9273-D8E2260A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E17A-367B-4A41-83CB-A1A5C435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ABCB-40DB-4804-9ACE-05F1F8C5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3250-AFC6-4D5E-8D91-BD5F5A23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5DFE-EE9B-4F80-A134-EC823C4C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C62F-FFB5-47C2-BB61-2B14E457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61426-F16B-4F18-9E28-B25D7663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E01B-E4CA-4164-84C0-756797A4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59E4-2AB3-421B-BCB7-4EFB8C03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9DF4-F728-4789-A003-FF178DC3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1F927-80EB-4760-A305-8AD498FE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C68-AB20-48C0-809B-135DDF55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C79A-602F-4800-A6D6-F4977257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C4FE1-9ED7-4B2E-B9E7-A81B1024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477B5-34A0-4BD0-8500-07BBE96C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C09F0-E27E-43E7-8000-FCA4BCD8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8DEB0-D94D-4F48-A07F-2A455D07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15385-10C3-4A27-A36E-5892BA33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D184B-0795-4910-950D-19CD2DCD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5588-57EB-4F7E-BBF7-8721BDC2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8182-4145-4746-A12A-4D5DE0C4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6A8F3-3016-468D-8CB2-3EE97175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29D-0F8B-4665-BB14-98212AB4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E3549-B378-46F1-A4C8-69644D72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542D3-D158-432E-A948-2A92953E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D2C7E-C41E-4E98-9C14-CB49198A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EA0F2-63C5-40B2-B24A-7A567F67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E89FB-B62C-4396-A353-D0CB9AC0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24140-575C-4540-B001-6634D47D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0B085-D7DC-4F46-B7CF-49B991E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4D9B4-FC95-4DCF-9930-DB40BD86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538AC-996F-4511-9739-7D09A248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28B16-5EE4-4362-BA56-3A4895D4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CF3-0CD0-41E0-A35F-9BFD1423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22616-A600-40B1-82AE-D589A592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4FDD-20FA-4D28-8199-538B688E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7F9FD-5CFA-4C03-9C42-3CFD8522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EFE82-54D9-4933-88E8-43AF2894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61B9F-F228-468E-87ED-24EA8481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792DC-42BC-41B3-9F55-2719CF77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FA56F-0B35-45C5-B9BF-B626E64A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D87AB-3E50-4C8B-828B-AB90D800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B7560-C940-439A-AB0D-611C5A33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9689F-2E64-450D-B0CE-6D4A62A4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5D4-877B-446A-B62A-E75DD04C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C10BB-D299-4FC6-A1E2-2A20B28A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C68AC-B2E9-42F7-ACE8-EF9E3C5A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303BA-A532-4A5E-BF88-3F6D3F7A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97050-2491-4E86-BD31-9EBEB87F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BD3DF-A80E-4EB3-AD10-F454AC88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53EF2-3325-4EEE-8308-6DF112B8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1906A-AAF1-402B-81AE-2BE68873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17962-A301-4C92-8EEB-A827DA18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A0F11-CDC9-4696-BE90-FFF4EC52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F1CBE-259E-4297-9735-D72AE94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8DD-7EFE-49A9-9F6D-F683EF7A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2188E-7112-4E3A-BDC7-FD61C964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90912-8B84-4149-B3C3-837C27B8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11CFD-1F57-4732-8269-3483D2C8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339FD-74A6-4D3D-A369-D7217F29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74386-6E69-48DF-A545-B90AEFA1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9C243-DEC2-4CB9-9A8C-E4643754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155B9-CC9C-47C6-A643-C3EEBB10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685C4-755F-46F4-B45D-8DC1D53E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FF806-B76D-4677-A17E-BF05354B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B12E2-C0EC-4F1E-AA27-D3F69424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A99-85B4-41A5-B029-F0E3F0B7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D9423-0472-4E8D-99A5-ECEA4EEF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76DCA-48E7-45B2-ADBD-02B045D1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082E4-ED16-4A8A-A3FE-3D97C8AF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95017-101A-4A47-B9FD-D8BFB739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9BD81-0704-4F90-9AF5-98AAE6AE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CE6DC-826E-4A90-83A9-3DEF40E6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886D9-EDFC-4C4C-B00C-EBCEF0DD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A9716-867A-4DB2-B931-3799A332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CCF73-9D7B-4446-8018-24403D91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7F194-5990-4B3C-9498-3776F356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98CF-3002-46A5-ADBB-1C75A59E91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CF1A-ADF0-4E7B-B1E3-28CA641FA8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28E5-F15D-4D72-B96C-E6A2F4307A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3D49-A876-491D-9696-E5CF8575CA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FD6A-D3CA-4BBB-8AB6-B6B5268D3B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75A8-A0CB-4744-9436-DE009A007AF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B2B1-29BD-4015-8E29-94ADF4CF1CB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41BB-20CF-43CF-92A9-8B7D32966C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135E-76BA-4B20-8C7C-A0D2D3F994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CD38-2AD7-4CB5-9890-AFAE2BBF7AB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1125-9FB9-4495-9B45-131FA8A3FA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A2A7-DCED-4CF8-B3F9-B183BBC4F1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54 Života dar z teba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a dar z teba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ho tebe odovzd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užbu svojich rúk jak dar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kladiem, Pane, na oltár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hy obdar ochot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čať vďačne za tebou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dar hlasu, čo si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vzdá ti chválu, slávy Kráľ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ečou chcem ťa, Pane, ct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ťou pravdy veleb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, čo som a čo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tvojej službe vďačne dám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ôľu moju posil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skutkom lásky usmern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väť srdca každý ci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nech viem v mier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ľuďmi žiť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mi vrúcnej vďaky pl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o, čo som a čo m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šetko, v čo dúfať sm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úprimne ti ďakujem.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1T16:46:47Z</dcterms:modified>
  <cp:revision>21</cp:revision>
  <dc:subject/>
  <dc:title>Je veľký náš Pán, on slávy je Kráľ Nech do všetkých strán  spev vrúcnych znie chvál.</dc:title>
</cp:coreProperties>
</file>